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6B1-0E1D-4367-8BA1-FBC9FD5A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BFA-3776-427B-8F40-FF6D1C9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88D-6B13-41F0-9DF9-A7C54E30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09E-AD3A-45B8-B4A8-B0FBABCC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682D-8E9E-4169-98B0-0541B29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0AA3-CB36-4969-8850-140978B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00D-B146-4C47-858E-0226923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F7D-5853-4F26-B81C-3952455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5285-0861-44D2-961E-FDE03FE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DC7C-C63E-4EA2-897E-DEE5964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469-2DF8-4175-A833-ECBDC49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EA3-9640-4739-B3DE-CAEE640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045B-1211-4F0A-9280-02ACF815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2BDE-6844-4268-BCE7-1EB715C6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E13-66EC-45C6-86CB-5B16FBB9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9817-EC8F-4ED7-8FA8-A223197A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3057-A71C-4421-B624-B6F0DB15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FF0-74BE-4715-9081-616C3064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FB8-D61F-438C-8A96-0FFEF82A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43B-2696-4FAB-BCDF-B60FEE6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988-84AA-45CD-97DE-B6E89801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BFA-C033-4374-9855-A852591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AB9-FD70-4202-BB2D-9165F549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83D-FA87-41DD-BD13-A0A745E7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E69C-3CF2-43D2-82A7-A9DF5BBFDC3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806A-1B06-49AE-9DE9-08D68EDF46F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E I ODCINKI RÓWNOLEG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RÓWNOLEG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71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, a do ekierki linij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Przesuw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22360" y="4464000"/>
            <a:ext cx="655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86640" y="410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132000" y="4464000"/>
            <a:ext cx="1800000" cy="1512720"/>
            <a:chOff x="3132000" y="4464000"/>
            <a:chExt cx="1800000" cy="1512720"/>
          </a:xfrm>
        </p:grpSpPr>
        <p:sp>
          <p:nvSpPr>
            <p:cNvPr id="102" name=""/>
            <p:cNvSpPr/>
            <p:nvPr/>
          </p:nvSpPr>
          <p:spPr>
            <a:xfrm flipV="1">
              <a:off x="3419280" y="4681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132000" y="446400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116000" y="234936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4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68936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s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 prostej t, co zapisujemy symboliczni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4" descr=""/>
          <p:cNvPicPr/>
          <p:nvPr/>
        </p:nvPicPr>
        <p:blipFill>
          <a:blip r:embed="rId1"/>
          <a:srcRect l="8112" t="1585" r="11499" b="1303"/>
          <a:stretch/>
        </p:blipFill>
        <p:spPr>
          <a:xfrm>
            <a:off x="2556000" y="2798640"/>
            <a:ext cx="57600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2000" y="198900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rysujemy prostą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429000"/>
            <a:ext cx="643572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86640" y="3062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5634000"/>
            <a:ext cx="504036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27720" y="52736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527364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67000" y="5815080"/>
            <a:ext cx="61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roste pokrywające się s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5.18519E-006 L -2.5E-006 -0.15092 E">
                                      <p:cBhvr>
                                        <p:cTn id="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RÓWNOLEG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36640" y="1719360"/>
            <a:ext cx="0" cy="4093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171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62280" y="1630440"/>
            <a:ext cx="9360" cy="40035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124000"/>
            <a:ext cx="4005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wie proste odpoczywał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ię nie doty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ówn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ff"/>
                </a:solidFill>
                <a:latin typeface="Arial"/>
              </a:rPr>
              <a:t>legł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 tapcz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słychać było tylko chrap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ówno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eg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22360" y="2259000"/>
            <a:ext cx="274500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9720"/>
            <a:ext cx="274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16640" y="2259000"/>
            <a:ext cx="288108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72000" y="2979720"/>
            <a:ext cx="292572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06640" y="131436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jeżeli leżą na prostych równoleg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1640" y="2259000"/>
            <a:ext cx="1260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1280" y="2979720"/>
            <a:ext cx="72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21640" y="2979720"/>
            <a:ext cx="85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42000" y="2259000"/>
            <a:ext cx="112536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590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51280" y="2259000"/>
            <a:ext cx="3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0621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07000" y="2214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86640" y="221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200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42360" y="3062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AB ||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65436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KL ||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2360" y="5589720"/>
            <a:ext cx="6794640" cy="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5589720"/>
            <a:ext cx="1260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5589720"/>
            <a:ext cx="855720" cy="0"/>
          </a:xfrm>
          <a:prstGeom prst="line">
            <a:avLst/>
          </a:prstGeom>
          <a:ln w="12600">
            <a:solidFill>
              <a:srgbClr val="ff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459900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cinki leżące na jednej prostej są do siebi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ównoleg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32000" y="558972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37000" y="55897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128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589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7000" y="608472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znie zapisujem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 || 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33:48Z</dcterms:modified>
  <cp:revision>12</cp:revision>
  <dc:subject/>
  <dc:title>Slajd 1</dc:title>
</cp:coreProperties>
</file>